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486-8B99-44C6-A3A5-12B2501D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510-836F-408F-BA23-65AB3AE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783-E172-421A-A984-B887C464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BD1-A16C-4C67-944A-11B24E1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FB3-8B9E-4214-96FE-CB8936C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7D5-2ABD-44C9-830C-1F3085D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7C0-FED8-4CFF-A6C0-39B543E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3E5-C9E0-4DBF-A363-DD0E4CB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989-0BDD-404F-813C-C88EADC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98D-22E0-4C38-955C-494E7AA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081-4278-4067-A62B-BD61230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095-F5F3-4706-8BD8-59BA1C1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C2B-82D0-47CB-B0D3-3C45A9A10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the Tig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alvin P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-5335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in the Amazon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Amazon Jungle Tours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36436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-10666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're was a tiger named Joh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tiger%20san%20francisco.jpg"/>
          <p:cNvPicPr/>
          <p:nvPr/>
        </p:nvPicPr>
        <p:blipFill>
          <a:blip r:embed="rId1"/>
          <a:stretch/>
        </p:blipFill>
        <p:spPr>
          <a:xfrm>
            <a:off x="2209680" y="1363680"/>
            <a:ext cx="4953240" cy="524016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-99072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ff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did not have a mom or a 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rlv.zcache.com/fantasy_tiger_moon_postcard-p239348921981371637qibm_400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-12952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Johnny met another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nglish.people.com.cn/200607/17/images/tiger1.jpg"/>
          <p:cNvPicPr/>
          <p:nvPr/>
        </p:nvPicPr>
        <p:blipFill>
          <a:blip r:embed="rId2"/>
          <a:stretch/>
        </p:blipFill>
        <p:spPr>
          <a:xfrm>
            <a:off x="1066680" y="1219320"/>
            <a:ext cx="70106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617220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played and played then they fell in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4"/>
          <a:stretch/>
        </p:blipFill>
        <p:spPr>
          <a:xfrm>
            <a:off x="-114300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year later they had a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pictures.ezpics.net/Photos/Art/ezpics.net/carrington/ArtCards/4.jpg"/>
          <p:cNvPicPr/>
          <p:nvPr/>
        </p:nvPicPr>
        <p:blipFill>
          <a:blip r:embed="rId2"/>
          <a:stretch/>
        </p:blipFill>
        <p:spPr>
          <a:xfrm>
            <a:off x="314280" y="1295280"/>
            <a:ext cx="51148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english.people.com.cn/200605/24/images/tiger1.jpg"/>
          <p:cNvPicPr/>
          <p:nvPr/>
        </p:nvPicPr>
        <p:blipFill>
          <a:blip r:embed="rId3"/>
          <a:stretch/>
        </p:blipFill>
        <p:spPr>
          <a:xfrm>
            <a:off x="5410080" y="1297080"/>
            <a:ext cx="3733920" cy="496080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-60948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four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api.ning.com/files/Aid2JCwTaiNIBvburuU4ZTFoRNgPa5ppWq470hm5Hw1LnQYfeuDtiFSC6ZoTWQjr4SfUboPYhA2tgfABQ5lFbVRDlt9g7Qgf/two_tigers_468x307.jpg"/>
          <p:cNvPicPr/>
          <p:nvPr/>
        </p:nvPicPr>
        <p:blipFill>
          <a:blip r:embed="rId2"/>
          <a:stretch/>
        </p:blipFill>
        <p:spPr>
          <a:xfrm>
            <a:off x="0" y="1447920"/>
            <a:ext cx="44578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wo tigers"/>
          <p:cNvPicPr/>
          <p:nvPr/>
        </p:nvPicPr>
        <p:blipFill>
          <a:blip r:embed="rId3"/>
          <a:stretch/>
        </p:blipFill>
        <p:spPr>
          <a:xfrm>
            <a:off x="4419720" y="1447920"/>
            <a:ext cx="4724280" cy="296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838080" y="480060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Johnny finally got the family he always wa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orded Sound" descr=""/>
          <p:cNvPicPr/>
          <p:nvPr/>
        </p:nvPicPr>
        <p:blipFill>
          <a:blip r:embed="rId4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3" descr=""/>
          <p:cNvPicPr/>
          <p:nvPr/>
        </p:nvPicPr>
        <p:blipFill>
          <a:blip r:embed="rId2"/>
          <a:stretch/>
        </p:blipFill>
        <p:spPr>
          <a:xfrm>
            <a:off x="1755720" y="1700280"/>
            <a:ext cx="5705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42Z</dcterms:created>
  <dc:creator>itsuser</dc:creator>
  <dc:description/>
  <dc:language>en-US</dc:language>
  <cp:lastModifiedBy>itsuser</cp:lastModifiedBy>
  <dcterms:modified xsi:type="dcterms:W3CDTF">2009-04-14T15:51:47Z</dcterms:modified>
  <cp:revision>13</cp:revision>
  <dc:subject/>
  <dc:title>Slide 1</dc:title>
</cp:coreProperties>
</file>